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DF9058-B8A8-4D40-AC20-3B0CD41A5F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084A9EE-6E99-4C9C-B794-D8E0B429B5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4F0F5A0-14CC-4ADE-9730-AE78BC476D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88DCEEE-DDB2-447F-8BC1-72BF180DF4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5F1A500-F897-4230-8455-345F0E1472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CA97AFC-DCBC-4514-8ED5-2A803691E7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112C770-DF66-48F3-A87E-85B42E2B85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E4ECF21-4671-4820-9CFC-392D9AB092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3C3D635-8C6A-42ED-8E17-8D710497DE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6A9613E-143F-445D-BEAB-5F6F81EDEE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D5FA7C0-0F74-4384-BA07-E946594363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8CFB932-8C3C-47D8-B626-C25B65B5E9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2CD6A-C2FC-40D9-96FA-ED3782AD51C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492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精神障碍患者的家庭   </a:t>
            </a:r>
            <a:br>
              <a:rPr sz="4000"/>
            </a:br>
            <a:r>
              <a:rPr b="1" lang="zh-CN" sz="4000" spc="-1" strike="noStrike">
                <a:solidFill>
                  <a:srgbClr val="ffffff"/>
                </a:solidFill>
                <a:latin typeface="黑体"/>
                <a:ea typeface="黑体"/>
              </a:rPr>
              <a:t>     护理与社区防治</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的重要手段</a:t>
            </a:r>
            <a:endParaRPr b="0" lang="en-US" sz="3200" spc="-1" strike="noStrike">
              <a:solidFill>
                <a:srgbClr val="ffffff"/>
              </a:solidFill>
              <a:latin typeface="Verdana"/>
            </a:endParaRPr>
          </a:p>
        </p:txBody>
      </p:sp>
      <p:sp>
        <p:nvSpPr>
          <p:cNvPr id="137" name="PlaceHolder 2"/>
          <p:cNvSpPr>
            <a:spLocks noGrp="1"/>
          </p:cNvSpPr>
          <p:nvPr>
            <p:ph/>
          </p:nvPr>
        </p:nvSpPr>
        <p:spPr>
          <a:xfrm>
            <a:off x="1187280" y="2133720"/>
            <a:ext cx="7220160" cy="3497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支持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39" name="PlaceHolder 2"/>
          <p:cNvSpPr>
            <a:spLocks noGrp="1"/>
          </p:cNvSpPr>
          <p:nvPr>
            <p:ph/>
          </p:nvPr>
        </p:nvSpPr>
        <p:spPr>
          <a:xfrm>
            <a:off x="755280" y="1341000"/>
            <a:ext cx="7777080" cy="42879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定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属于心理治疗的一种形式，它通过在家庭成员内部促进谅解，增进情感交流和相互关心的做法，使每个家庭成员了解家庭中存在的危机，从而产生治疗性的影响，改善家庭功能，使其向正常发展。家庭治疗的对象不只是患者本人，还包括所有其他家庭成员。</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1" name="PlaceHolder 2"/>
          <p:cNvSpPr>
            <a:spLocks noGrp="1"/>
          </p:cNvSpPr>
          <p:nvPr>
            <p:ph/>
          </p:nvPr>
        </p:nvSpPr>
        <p:spPr>
          <a:xfrm>
            <a:off x="899640" y="1628640"/>
            <a:ext cx="7417080" cy="3137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目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的目的是通过开放性沟通等手段，促使每个家庭成员的情绪和行为向健康方向发展，从而发挥自身的理想角色，促进家庭功能良性发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的阶段</a:t>
            </a:r>
            <a:endParaRPr b="0" lang="en-US" sz="3200" spc="-1" strike="noStrike">
              <a:solidFill>
                <a:srgbClr val="ffffff"/>
              </a:solidFill>
              <a:latin typeface="Verdana"/>
            </a:endParaRPr>
          </a:p>
        </p:txBody>
      </p:sp>
      <p:sp>
        <p:nvSpPr>
          <p:cNvPr id="143" name="PlaceHolder 2"/>
          <p:cNvSpPr>
            <a:spLocks noGrp="1"/>
          </p:cNvSpPr>
          <p:nvPr>
            <p:ph/>
          </p:nvPr>
        </p:nvSpPr>
        <p:spPr>
          <a:xfrm>
            <a:off x="1692360" y="1917720"/>
            <a:ext cx="5851440" cy="27050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最初接触阶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治疗阶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终止阶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5" name="PlaceHolder 2"/>
          <p:cNvSpPr>
            <a:spLocks noGrp="1"/>
          </p:cNvSpPr>
          <p:nvPr>
            <p:ph/>
          </p:nvPr>
        </p:nvSpPr>
        <p:spPr>
          <a:xfrm>
            <a:off x="899640" y="1413000"/>
            <a:ext cx="7201080" cy="3497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在家庭治疗中的角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护士在家庭治疗中一般承担家庭治疗师的角色，他们的主要工作是进行家庭评估、提供家庭健康教育和家庭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7" name="PlaceHolder 2"/>
          <p:cNvSpPr>
            <a:spLocks noGrp="1"/>
          </p:cNvSpPr>
          <p:nvPr>
            <p:ph/>
          </p:nvPr>
        </p:nvSpPr>
        <p:spPr>
          <a:xfrm>
            <a:off x="1044720" y="1557000"/>
            <a:ext cx="7075440" cy="3786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士在家庭治疗中的作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在充分了解精神疾病患者家庭背景及家庭功能状态的前提下，提供专业化帮助，使家庭成员了解其角色对家庭系统的影响，同时使其意识到角色是可学习并改变的，最终促使家庭产生积极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9" name="PlaceHolder 2"/>
          <p:cNvSpPr>
            <a:spLocks noGrp="1"/>
          </p:cNvSpPr>
          <p:nvPr>
            <p:ph/>
          </p:nvPr>
        </p:nvSpPr>
        <p:spPr>
          <a:xfrm>
            <a:off x="1115640" y="1557360"/>
            <a:ext cx="7435800" cy="371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评估患者患病前后的家庭关系：比较患者患病前病后家庭角色，家庭结构中的位置，与其他家庭成员的关系等有哪些改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评估患者的主要精神症状：如阳性症状、幻听、妄想等，但同时应注意不要忽略对阴性症状的观察，如兴趣减退、懒散、不修边幅等，以免延误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1" name="PlaceHolder 2"/>
          <p:cNvSpPr>
            <a:spLocks noGrp="1"/>
          </p:cNvSpPr>
          <p:nvPr>
            <p:ph/>
          </p:nvPr>
        </p:nvSpPr>
        <p:spPr>
          <a:xfrm>
            <a:off x="324000" y="1268280"/>
            <a:ext cx="8154720" cy="5021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评估</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评估家庭功能：①家庭沟通方式；②家庭解决冲突的能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评估家庭结构：①家庭成员在家庭中的角色及承担的责任义务；②家庭价值观及规范对患者的影响。</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评估家庭对精神障碍的看法，认识程度，对病情的观察判断力，以及能否及时报告可靠的病情资料等。</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评估家庭环境、文化背景、情感氛围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53" name="PlaceHolder 2"/>
          <p:cNvSpPr>
            <a:spLocks noGrp="1"/>
          </p:cNvSpPr>
          <p:nvPr>
            <p:ph/>
          </p:nvPr>
        </p:nvSpPr>
        <p:spPr>
          <a:xfrm>
            <a:off x="611280" y="1557000"/>
            <a:ext cx="7796160" cy="4360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期常用的各种评估量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简明精神病量表；②阳性症状评定量表；③阴性症状评定量表；④临床总体评定量表</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慢性期常用的各种评估量表：</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社会功能缺陷筛选量表；②日常生活能力量表；③家庭关怀指数问卷；④家庭功能评定问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155" name="PlaceHolder 2"/>
          <p:cNvSpPr>
            <a:spLocks noGrp="1"/>
          </p:cNvSpPr>
          <p:nvPr>
            <p:ph/>
          </p:nvPr>
        </p:nvSpPr>
        <p:spPr>
          <a:xfrm>
            <a:off x="684360" y="1483920"/>
            <a:ext cx="7488000" cy="45068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的生命体征、意识状态、日常生活情况（营养、排泄、睡眠、饮食）、日常活动情况及躯体功能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是否有躯体疾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既往健康状况、既往疾病治疗及用药情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否有家族性遗传性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844640"/>
            <a:ext cx="4896000" cy="391176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障碍患者的家庭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障碍患者的社区防治</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46ca6"/>
              </a:solidFill>
              <a:latin typeface="Arial"/>
            </a:endParaRPr>
          </a:p>
        </p:txBody>
      </p:sp>
      <p:sp>
        <p:nvSpPr>
          <p:cNvPr id="113" name="AutoShape 9"/>
          <p:cNvSpPr/>
          <p:nvPr/>
        </p:nvSpPr>
        <p:spPr>
          <a:xfrm>
            <a:off x="1763640" y="2997360"/>
            <a:ext cx="689040" cy="593640"/>
          </a:xfrm>
          <a:prstGeom prst="hexagon">
            <a:avLst>
              <a:gd name="adj" fmla="val 29018"/>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46ca6"/>
              </a:solidFill>
              <a:latin typeface="Arial"/>
            </a:endParaRPr>
          </a:p>
        </p:txBody>
      </p:sp>
      <p:sp>
        <p:nvSpPr>
          <p:cNvPr id="115" name="Text Box 15"/>
          <p:cNvSpPr/>
          <p:nvPr/>
        </p:nvSpPr>
        <p:spPr>
          <a:xfrm>
            <a:off x="1979640" y="3141720"/>
            <a:ext cx="3445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1"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1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157" name="PlaceHolder 2"/>
          <p:cNvSpPr>
            <a:spLocks noGrp="1"/>
          </p:cNvSpPr>
          <p:nvPr>
            <p:ph/>
          </p:nvPr>
        </p:nvSpPr>
        <p:spPr>
          <a:xfrm>
            <a:off x="250560" y="1628280"/>
            <a:ext cx="8443800" cy="4289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有无遭遇重大生活事件。</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对疾病的认识能力和对压力的应对能力。</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能否主动料理个人卫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是否有良好的环境适应能力：包括语言交流能力、自我控制和保护能力、与人交往能力、使用公共设施及交通工具的能力以及学习工作能力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59" name="PlaceHolder 2"/>
          <p:cNvSpPr>
            <a:spLocks noGrp="1"/>
          </p:cNvSpPr>
          <p:nvPr>
            <p:ph/>
          </p:nvPr>
        </p:nvSpPr>
        <p:spPr>
          <a:xfrm>
            <a:off x="684360" y="1412640"/>
            <a:ext cx="7867440" cy="4073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患者相关的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人应对无效：与精神症状或缺乏处理事件的技巧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过程改变：与思维内容障碍、思维逻辑障碍、思维联想障碍等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潜在暴力危险：与精神症状相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61" name="PlaceHolder 2"/>
          <p:cNvSpPr>
            <a:spLocks noGrp="1"/>
          </p:cNvSpPr>
          <p:nvPr>
            <p:ph/>
          </p:nvPr>
        </p:nvSpPr>
        <p:spPr>
          <a:xfrm>
            <a:off x="826920" y="1412640"/>
            <a:ext cx="7274160" cy="3568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家庭相关的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家庭应对无效：与缺乏精神卫生知识及处理事物的技巧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父母角色冲突：与子女患病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3" name="PlaceHolder 2"/>
          <p:cNvSpPr>
            <a:spLocks noGrp="1"/>
          </p:cNvSpPr>
          <p:nvPr>
            <p:ph/>
          </p:nvPr>
        </p:nvSpPr>
        <p:spPr>
          <a:xfrm>
            <a:off x="899640" y="1341360"/>
            <a:ext cx="6551640" cy="50198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生理功能方面</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居住环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个人卫生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睡眠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生活自理能力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5" name="PlaceHolder 2"/>
          <p:cNvSpPr>
            <a:spLocks noGrp="1"/>
          </p:cNvSpPr>
          <p:nvPr>
            <p:ph/>
          </p:nvPr>
        </p:nvSpPr>
        <p:spPr>
          <a:xfrm>
            <a:off x="1115640" y="1557360"/>
            <a:ext cx="7056360" cy="3713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心理功能方面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尊重和关心患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指导家属给予患者表达情感的机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教会患者应对压力的技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7" name="PlaceHolder 2"/>
          <p:cNvSpPr>
            <a:spLocks noGrp="1"/>
          </p:cNvSpPr>
          <p:nvPr>
            <p:ph/>
          </p:nvPr>
        </p:nvSpPr>
        <p:spPr>
          <a:xfrm>
            <a:off x="1547640" y="2204640"/>
            <a:ext cx="6336000" cy="34974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社会功能方面</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用药护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观察病情变化，预防疾病复发</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69" name="PlaceHolder 2"/>
          <p:cNvSpPr>
            <a:spLocks noGrp="1"/>
          </p:cNvSpPr>
          <p:nvPr>
            <p:ph/>
          </p:nvPr>
        </p:nvSpPr>
        <p:spPr>
          <a:xfrm>
            <a:off x="826920" y="1484280"/>
            <a:ext cx="7508880" cy="4433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综合运用精神医学、心理学、社会学、预防医学等多学科知识，以社区为服务单元，以社区居民为服务对象，探讨如何提高个体的适应能力，最终促进整个社区人群精神心理健康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71" name="PlaceHolder 2"/>
          <p:cNvSpPr>
            <a:spLocks noGrp="1"/>
          </p:cNvSpPr>
          <p:nvPr>
            <p:ph/>
          </p:nvPr>
        </p:nvSpPr>
        <p:spPr>
          <a:xfrm>
            <a:off x="899640" y="1483920"/>
            <a:ext cx="7363080" cy="407340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服务的主要内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为社区居民建立健康档案，定期随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开展社区康复治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做好双向转诊服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开展健康宣教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为社区普通人群提供心理咨询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73" name="PlaceHolder 2"/>
          <p:cNvSpPr>
            <a:spLocks noGrp="1"/>
          </p:cNvSpPr>
          <p:nvPr>
            <p:ph/>
          </p:nvPr>
        </p:nvSpPr>
        <p:spPr>
          <a:xfrm>
            <a:off x="899640" y="2133720"/>
            <a:ext cx="7559640" cy="32796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服务开展的条件</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政策及资源支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完善的组织管理体系及系统的工作程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社区精神障碍患者的特点</a:t>
            </a:r>
            <a:endParaRPr b="0" lang="en-US" sz="3200" spc="-1" strike="noStrike">
              <a:solidFill>
                <a:srgbClr val="ffffff"/>
              </a:solidFill>
              <a:latin typeface="Verdana"/>
            </a:endParaRPr>
          </a:p>
        </p:txBody>
      </p:sp>
      <p:sp>
        <p:nvSpPr>
          <p:cNvPr id="175" name="PlaceHolder 2"/>
          <p:cNvSpPr>
            <a:spLocks noGrp="1"/>
          </p:cNvSpPr>
          <p:nvPr>
            <p:ph/>
          </p:nvPr>
        </p:nvSpPr>
        <p:spPr>
          <a:xfrm>
            <a:off x="539280" y="1483920"/>
            <a:ext cx="7939080" cy="4289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适应障碍等轻型精神障碍较多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经医院治疗后回到社区进行康复的慢性精神障碍患者居多，这类患者往往会有精神残疾等后遗症。在社区中，其面临的主要问题不是精神症状，而是如何减轻或消除精神或智力残疾，恢复或保持原有生活及工作技能，尽早回归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2" name="PlaceHolder 2"/>
          <p:cNvSpPr>
            <a:spLocks noGrp="1"/>
          </p:cNvSpPr>
          <p:nvPr>
            <p:ph/>
          </p:nvPr>
        </p:nvSpPr>
        <p:spPr>
          <a:xfrm>
            <a:off x="395280" y="1483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护理的定义、目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治疗的定义、目的、三个阶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护理的定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护理工作对象、范围和要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护理人员在社区精神卫生护理中的角色与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77" name="PlaceHolder 2"/>
          <p:cNvSpPr>
            <a:spLocks noGrp="1"/>
          </p:cNvSpPr>
          <p:nvPr>
            <p:ph/>
          </p:nvPr>
        </p:nvSpPr>
        <p:spPr>
          <a:xfrm>
            <a:off x="395280" y="1628280"/>
            <a:ext cx="7580160" cy="32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指综合运用多学科知识对一定地域或行政区域内的社会人群中的精神疾病进行预防、治疗、康复、护理的指导和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79"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主动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康复理念贯穿其中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系统性、持续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强调治疗、预防、健康一体化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利用各种社会资源为精神障碍患者及家属提供服务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护理工作的三级预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级预防：指护士在患者发病前采取措施，从病因水平预防精神健康问题的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级预防：指对精神健康疾病发病前期患者，做到早发现、早诊断、早治疗，防止疾病进一步发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三级预防：指护士为需要长期在社区康复的精神障碍患者提供发病后期的护理干预，以防止患者病情恶化、反复，帮助其最大限度地恢复社会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角色与功能</a:t>
            </a:r>
            <a:endParaRPr b="0" lang="en-US" sz="3200" spc="-1" strike="noStrike">
              <a:solidFill>
                <a:srgbClr val="ffffff"/>
              </a:solidFill>
              <a:latin typeface="Verdana"/>
            </a:endParaRPr>
          </a:p>
        </p:txBody>
      </p:sp>
      <p:sp>
        <p:nvSpPr>
          <p:cNvPr id="183" name="PlaceHolder 2"/>
          <p:cNvSpPr>
            <a:spLocks noGrp="1"/>
          </p:cNvSpPr>
          <p:nvPr>
            <p:ph/>
          </p:nvPr>
        </p:nvSpPr>
        <p:spPr>
          <a:xfrm>
            <a:off x="684000" y="1989000"/>
            <a:ext cx="7939080" cy="43610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角色：①直接照顾者；②疾病预防者；③提供治疗者；④社区治疗环境的创造者；⑤咨询者；⑥联系者；⑦策划者；⑧协调者；⑨教育及研究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角色与功能</a:t>
            </a:r>
            <a:endParaRPr b="0" lang="en-US" sz="3200" spc="-1" strike="noStrike">
              <a:solidFill>
                <a:srgbClr val="ffffff"/>
              </a:solidFill>
              <a:latin typeface="Verdana"/>
            </a:endParaRPr>
          </a:p>
        </p:txBody>
      </p:sp>
      <p:sp>
        <p:nvSpPr>
          <p:cNvPr id="185" name="PlaceHolder 2"/>
          <p:cNvSpPr>
            <a:spLocks noGrp="1"/>
          </p:cNvSpPr>
          <p:nvPr>
            <p:ph/>
          </p:nvPr>
        </p:nvSpPr>
        <p:spPr>
          <a:xfrm>
            <a:off x="1044360" y="1483920"/>
            <a:ext cx="498636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功能：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治疗性功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健康教育功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协调各种服务的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1332000" y="14130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的主要内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开展的条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发展趋势</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障碍患者特点和护理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1619280" y="2060640"/>
            <a:ext cx="6624720" cy="302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结合具体案例，按照护理程序对社区精神疾病患者及其家庭进行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CD97D-F70D-4D3D-B069-F3F3B0D88210}" type="slidenum">
              <a:rPr b="0" lang="en-US" sz="1400" spc="-1" strike="noStrike">
                <a:solidFill>
                  <a:srgbClr val="046ca6"/>
                </a:solidFill>
                <a:latin typeface="Arial"/>
              </a:rPr>
              <a:t>&lt;number&gt;</a:t>
            </a:fld>
            <a:endParaRPr b="1"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a:t>
            </a:r>
            <a:endParaRPr b="0" lang="en-US" sz="3200" spc="-1" strike="noStrike">
              <a:solidFill>
                <a:srgbClr val="ffffff"/>
              </a:solidFill>
              <a:latin typeface="Verdana"/>
            </a:endParaRPr>
          </a:p>
        </p:txBody>
      </p:sp>
      <p:sp>
        <p:nvSpPr>
          <p:cNvPr id="129" name="PlaceHolder 2"/>
          <p:cNvSpPr>
            <a:spLocks noGrp="1"/>
          </p:cNvSpPr>
          <p:nvPr>
            <p:ph/>
          </p:nvPr>
        </p:nvSpPr>
        <p:spPr>
          <a:xfrm>
            <a:off x="1115640" y="1773000"/>
            <a:ext cx="6808680" cy="329868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家庭护理的概述</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家庭护理的重要手段</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的家庭护理程序</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2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2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31" name="PlaceHolder 2"/>
          <p:cNvSpPr>
            <a:spLocks noGrp="1"/>
          </p:cNvSpPr>
          <p:nvPr>
            <p:ph/>
          </p:nvPr>
        </p:nvSpPr>
        <p:spPr>
          <a:xfrm>
            <a:off x="394920" y="1844280"/>
            <a:ext cx="8319960" cy="3297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是指以家庭为单位，在精神障碍患者的住所内对患者及其照顾者所存在的健康问题进行护理的过程。其中，精神障碍患者家庭护理的对象为精神障碍患者及其照顾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目的</a:t>
            </a:r>
            <a:br>
              <a:rPr sz="2800"/>
            </a:br>
            <a:endParaRPr b="0" lang="en-US" sz="3200" spc="-1" strike="noStrike">
              <a:solidFill>
                <a:srgbClr val="ffffff"/>
              </a:solidFill>
              <a:latin typeface="Verdana"/>
            </a:endParaRPr>
          </a:p>
        </p:txBody>
      </p:sp>
      <p:sp>
        <p:nvSpPr>
          <p:cNvPr id="133" name="PlaceHolder 2"/>
          <p:cNvSpPr>
            <a:spLocks noGrp="1"/>
          </p:cNvSpPr>
          <p:nvPr>
            <p:ph/>
          </p:nvPr>
        </p:nvSpPr>
        <p:spPr>
          <a:xfrm>
            <a:off x="1044720" y="1700280"/>
            <a:ext cx="7362720" cy="2633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护理人员通过直接实施和间接协助家属实施对患者的护理，借助家庭内部沟通及互动方式的改变，帮助患者更好地适应其生存空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的功能</a:t>
            </a:r>
            <a:endParaRPr b="0" lang="en-US" sz="3200" spc="-1" strike="noStrike">
              <a:solidFill>
                <a:srgbClr val="ffffff"/>
              </a:solidFill>
              <a:latin typeface="Verdana"/>
            </a:endParaRPr>
          </a:p>
        </p:txBody>
      </p:sp>
      <p:sp>
        <p:nvSpPr>
          <p:cNvPr id="135" name="PlaceHolder 2"/>
          <p:cNvSpPr>
            <a:spLocks noGrp="1"/>
          </p:cNvSpPr>
          <p:nvPr>
            <p:ph/>
          </p:nvPr>
        </p:nvSpPr>
        <p:spPr>
          <a:xfrm>
            <a:off x="1042560" y="1412640"/>
            <a:ext cx="7364520" cy="35686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完善家庭支持系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识别精神疾病早期发作或复发的征象。</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助于精神疾病患者社会功能恢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直接处理家庭危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09-10T02:47:03Z</dcterms:modified>
  <cp:revision>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87</vt:lpwstr>
  </property>
</Properties>
</file>